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gif" ContentType="image/gif"/>
  <Override PartName="/ppt/media/image10.gif" ContentType="image/gif"/>
  <Override PartName="/ppt/media/image12.jpeg" ContentType="image/jpeg"/>
  <Override PartName="/ppt/media/image9.png" ContentType="image/png"/>
  <Override PartName="/ppt/media/image8.png" ContentType="image/png"/>
  <Override PartName="/ppt/media/image7.gif" ContentType="image/gif"/>
  <Override PartName="/ppt/media/image6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25.jpeg" ContentType="image/jpeg"/>
  <Override PartName="/ppt/media/image22.jpeg" ContentType="image/jpeg"/>
  <Override PartName="/ppt/media/image20.jpeg" ContentType="image/jpeg"/>
  <Override PartName="/ppt/media/image14.gif" ContentType="image/gif"/>
  <Override PartName="/ppt/media/image19.jpeg" ContentType="image/jpeg"/>
  <Override PartName="/ppt/media/image18.jpeg" ContentType="image/jpeg"/>
  <Override PartName="/ppt/media/image17.gif" ContentType="image/gif"/>
  <Override PartName="/ppt/media/image21.jpeg" ContentType="image/jpeg"/>
  <Override PartName="/ppt/media/image16.gif" ContentType="image/gif"/>
  <Override PartName="/ppt/media/image15.gif" ContentType="image/gif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B8F-4FCA-45C7-91F9-0F8CB65A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D36A-6D3D-4369-B976-C87EE796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12355-AC3C-46A4-988D-2573AD4C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04235-3037-4805-9368-F96A0218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4F7F4-54D7-47FC-AA13-172E9B63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DC367-95D8-4F65-93AC-0885AA4C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44C8A-A492-4D97-9882-035A83CC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0AA92-3880-4D6C-A1E4-1F76A9AD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82F1D-AC5B-4C58-B3BC-D29B735B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9BAA5-0F94-4F6D-A2AA-F859EB57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DF06E-B7DF-4458-9648-E29CC705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10177-84A9-45CA-9A3E-4E5AA3BD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14D1-36CE-4C18-A4AF-8BD6C887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E7B2D-14B9-4175-A9B5-53F50B0B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518F3-5410-4247-8383-9B1E51E0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AA044-BD6F-4423-B11D-9E49F47F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A9E89-24A4-4F7D-84CC-AD921ABE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D5600-E6E1-4C2B-9E35-FDBECEBA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8B3DA-CA21-40F6-8015-4052DE1A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11D21-223A-439E-B6DF-895B8E88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981C8-0A33-4479-8029-06D36B7A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4FF30-342C-4FB7-B9C7-E3FD4411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F457C-3B1F-4873-B129-4D83E14F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9330-94AC-4411-85C9-4A7A865A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DDFBB-B79A-4706-85F5-1CFF36F9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404D4-A1F2-43E2-9360-F5645D07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65994-D252-4484-85F9-1563C5FB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33664-F251-48FF-BCB5-FF24F8CB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CD39A-93B1-49FE-8669-64DD530B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58887-2D78-4173-85E2-D20F1C74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2CB6B-857A-45FC-9B0E-AC8E7917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99252-AA3D-43CE-9A06-E14AEAF1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786B5-BE2A-4922-A47D-2D8951A5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7F4E9-3D82-4BEC-A8A9-FB8294E0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2A71-5E20-4EC9-BDBE-9AD712D3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FE917-A153-491A-AE4F-8036D367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A0405-159E-46FA-B7E2-A8F08FA3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C1B51-24F2-42E3-AF14-EBA215B3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A5247-15FC-4020-8D1F-056377A0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F1EEA-ADD7-4D35-BC3C-BF809254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79E49-6591-4DFF-8403-8D49E8F6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9E43F-0C43-4B17-870F-12F59BD1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A8914-FBD4-48FA-8A04-B7810654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A4A18-23EF-4584-AF4F-1F2D202E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DE28E-3C85-4865-9F55-99347F5F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FBFE-BCC0-47F3-9509-A80C11DE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AB02C-420B-42C9-AD84-AE71A219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94F51-BFF8-49EC-86C4-A32362F7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EB331-E9FF-4DD6-81C0-7405392E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2F7F6-603D-4D5D-B4FA-42F420F4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C5E0D-F8F5-4AB9-AAEF-CFA12D03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C4E06B-704E-4FA6-BB35-BA5F67BD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4627A2-D4EE-4279-9878-7ECC8C4B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DE7278-FA7C-4D59-98CB-EC1C653F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F49CAE-3368-47AE-B512-84BE014E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A586A8-E62D-4AF8-9DA1-26FCACC8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CE59-CB4E-4FAA-9435-4B1EB859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0FA36A-0088-47C0-BD4F-ADB15483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1D3473-6B6D-457C-A6D8-C2A2B247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607734-383A-487C-9E87-06F26149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0577A4-E98C-4D9A-9E5E-03E1003B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A42538-D415-49E4-B851-4B0F8C3D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8725E7-EBEF-42C6-B58E-8BDB7BE4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723426-ADDC-47EC-A66B-456CDE01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0528-79BD-4EF3-B9BE-00EBAEE1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5B9D-1CF7-4F07-9F1A-3F53D6A8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9FBE-EF6E-41FA-A1B7-DC5785B1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4CC4-207E-44AD-AD30-1556FD0A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25FC-63DB-42B4-8B45-5D0E79B6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FC9A-82AC-4BD2-8148-F5F9B4EB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4EF6-5C08-4FF8-A5D9-619F21B2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2A48-4ECB-4976-8EB9-18D8BFF5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C151-B8C0-4CA1-943C-A2E66F05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1719-70F6-440E-9326-CC3CF3F6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0BDD4-7048-4FED-B443-6446C23D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5F2FE-40FB-40AC-9696-1BEA5E44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04DF6-C981-4E07-AD88-C6FD0443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2C4CE-2F65-4105-AAE5-CFDA3079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8A9DE-CA53-471D-B1D9-C3A6FEEA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EF3-2BB5-468D-8D6C-882749AC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304E3-DEF2-4112-B59B-023523E5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8AED3-26D2-412C-A2EF-E84374D5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08402-6D6A-42DE-9EC3-B81A2696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23284-5D66-40D4-9035-8ABC0D34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5EB03-FF04-4D70-A720-87E1833B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D3FA0-7854-4015-BABD-BDA22BE4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CF586-115C-4348-9021-A4909E87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FAE33-6D28-423B-BAFC-141DAA4E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066B0-BE6F-4204-95B3-9122959A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02B41-D306-475B-9B7A-10D09410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F141-55FC-4B67-B73B-30EBC014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F80D9-1C53-4A5C-B0CC-EF6094DC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9E747-A457-4C78-B040-046645F9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3412A-4BB6-49B0-ADA9-C037C233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2E3FB-E394-4040-8749-60271361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16B2D-3541-415C-AF21-D325D224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7C52F-7CFA-4649-A7EC-481C90F6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E553F-4B82-46A0-AFD2-886547CA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AEF91-586B-413E-BB77-CC0C2F4C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D6D4A-FCE0-417C-BA1E-1FA551A5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EE74D-BF2E-4F7F-824D-4FA02976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BAA2-F93B-4CF9-B285-C6DD10C1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37623-4A0D-4613-9F3F-E4E8F565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E3198-6638-4BAC-BE4B-5DC4C88F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C204A-4466-46EB-9B10-DEB0760F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CBDD8-D13D-4BD8-81D3-02A03B01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85D98-C46E-46CB-848B-FFDE09D1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51121-59B4-4148-9999-4E52847C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F7792-615E-485E-A759-4105D80E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F028F-3176-463A-92F5-8F634D30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830D4-6C68-4711-9B8E-A169DC6A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BF59F-ABF7-47F7-BF0B-927F1C34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5851-AB6D-4931-9319-8A3D0594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C8D41-252C-4181-87B3-2FF5933D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C2100-36AC-41A6-A773-0EE128DA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2CB31-0C51-41AE-9845-8E713F85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D4858-BFA9-47E4-BF1B-F771719F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ADA80-923B-4F03-B342-C463C6C6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A5E96-967E-437A-B235-A71C1908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679B3-4970-4643-9E27-220D682C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A58B0-7DF0-40E9-BE24-68C21AE6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6775D-DA67-4B9A-9F11-01001881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B3AE4-BD0E-4E8C-A2A4-927F7956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9FCF-014E-4B58-B956-88FBA4D4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47DE8-5DBE-4ADE-9FBE-CBE0E7D5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AF46D-63ED-43CA-8198-C3A42A8B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B0553-2700-44C1-AA0E-BE04DCCF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CB045-1CEC-4207-B529-172C9677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3B9A4-358D-425A-858D-15D4DB70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4FBA2-93A7-4E8D-A952-DFBAE81F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3B7CC-8086-4035-8E5B-A7216598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79E94-F0B2-4BC3-9BBE-1E80C01E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2CCE3-0A85-450D-AE81-5B2E9642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AA3F7-3C9B-4239-85A2-B634D72E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A435-15B2-4FAF-AFDC-BADBD983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C86A1-272E-42FD-ADDE-61DF5690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963CA-31C7-4226-811A-EEA4BA60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04653-9CC9-4D3A-8866-D759A817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1B7C4-6790-4CD5-ACAC-DC5DFF84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F7E1A-9F22-4990-9F14-D039D899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07B77-C68E-4D52-8A9E-9D23DABD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51BDE-3195-4CDF-98D9-D1CCE75E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BB429-8163-4E11-81A4-33BB1235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02415-51DE-4E81-8F04-5A2663C1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41E33-9DA3-4E21-9839-95BE7A5D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0A26-912F-4DE1-9B59-1BB3ADD9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2C6A8-B3F5-45DB-8E17-3A9477D0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080E8-EF7A-4ADA-91A5-FCAA40C3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77872-B632-40BA-A312-9E79DE15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6CC91-522E-4429-9FC4-2A426B66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855FD-3CAE-4F1B-89C9-C47A9F90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1D41F-2F86-44D5-9633-6092E42B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0CF5F-81B3-42E4-A404-6AA1A364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7068E-6B16-4AEF-95EE-C13058EF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79965-1B97-4126-932D-0410564A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62369-FC56-444C-85B4-30E20331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E5A8-330A-4BD8-9D63-5ACBA6A00692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74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E0A7-8421-4FB5-B9D0-70F12A30C210}" type="slidenum"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23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0E5F-ABFF-4C69-90A9-67622E2450C3}" type="slidenum">
              <a:rPr b="0" lang="en-A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8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A723-D8AF-4648-B9CC-C89E1EA40BC9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28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41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F9A9-2A06-4000-A79A-BBED5C9CFF61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5573-8B06-4F02-9425-FAD07576BA1A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0754-BC87-4B74-9602-B6952BBEB23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4922-479F-472D-A4C0-A3ED17438758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8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E237-553C-470B-A1AA-EFF7CC745BA5}" type="slidenum"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30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C117-5F8D-4301-8F08-F732423ADE5B}" type="slidenum">
              <a:rPr b="0" lang="en-A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87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1A7E-854D-417D-B060-8D40C3FFAFC2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37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50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D93E-790D-45E1-9606-F58846FFAFD3}" type="slidenum">
              <a:rPr b="0" lang="en-A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17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B764-3351-4AC9-BCF7-92110312779D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00ffff"/>
                </a:solidFill>
                <a:latin typeface="Garamond"/>
              </a:rPr>
              <a:t>Sensing our Environmen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08" name="Picture 5" descr="cart049"/>
          <p:cNvPicPr/>
          <p:nvPr/>
        </p:nvPicPr>
        <p:blipFill>
          <a:blip r:embed="rId1"/>
          <a:stretch/>
        </p:blipFill>
        <p:spPr>
          <a:xfrm>
            <a:off x="1403280" y="2276640"/>
            <a:ext cx="3097440" cy="262224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6" descr="tn_eyes_075"/>
          <p:cNvPicPr/>
          <p:nvPr/>
        </p:nvPicPr>
        <p:blipFill>
          <a:blip r:embed="rId2"/>
          <a:stretch/>
        </p:blipFill>
        <p:spPr>
          <a:xfrm>
            <a:off x="6156360" y="176688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7" descr="tn_eyes_066"/>
          <p:cNvPicPr/>
          <p:nvPr/>
        </p:nvPicPr>
        <p:blipFill>
          <a:blip r:embed="rId3"/>
          <a:stretch/>
        </p:blipFill>
        <p:spPr>
          <a:xfrm>
            <a:off x="4859280" y="428616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cc"/>
                </a:solidFill>
                <a:latin typeface="Arial"/>
              </a:rPr>
              <a:t>Human Olfactory recepto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does it work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Verdana"/>
              </a:rPr>
              <a:t>We smell something when vapours consisting of small lipid-soluble molecules bind to receptors, triggering an impulse that travel to the brain where it is perceiv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4" descr="ZOXPCALZNT58CA3IPX81CABDWOLOCAK8CV6KCAG0G22FCA437SGCCAXBZBNBCAGFKFCZCA8RUSMWCAEPAW8OCAD0TL2ICACVQ6KACA0NQHD6CA5AEHMDCA5I5NULCA59D5G0CA81OXXICA0MNA9CCAV9TXI8"/>
          <p:cNvPicPr/>
          <p:nvPr/>
        </p:nvPicPr>
        <p:blipFill>
          <a:blip r:embed="rId1"/>
          <a:stretch/>
        </p:blipFill>
        <p:spPr>
          <a:xfrm>
            <a:off x="1403280" y="3614760"/>
            <a:ext cx="2952720" cy="25416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5" descr="images15"/>
          <p:cNvPicPr/>
          <p:nvPr/>
        </p:nvPicPr>
        <p:blipFill>
          <a:blip r:embed="rId2"/>
          <a:stretch/>
        </p:blipFill>
        <p:spPr>
          <a:xfrm>
            <a:off x="5292720" y="0"/>
            <a:ext cx="308628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b7"/>
                </a:solidFill>
                <a:latin typeface="Arial Black"/>
              </a:rPr>
              <a:t>Touch and Tactile recepto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377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ceptors to detect stimuli that produce sensations of touch, pressure, temperature and pain are distributed over the entire skin surf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o stimulate tactile receptors – must have physical contact with the external body surf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b7"/>
                </a:solidFill>
                <a:latin typeface="Arial Black"/>
              </a:rPr>
              <a:t>Touch and Tactile recepto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iskers and bristles around the face of many mammals have touch receptors at their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- these act as extensions of the body surface increasing the ability to collect information through to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at is the value of pa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4" descr="1VXNCAU9MNO0CAKPRWQ0CAVJI1KZCA4AGRD1CATL38S1CA8PA88CCAH60C1UCA1CCSSZCAHKR5W9CATANC1VCA11Z6BJCAL9EGSGCAT5W4S6CAZN3R5DCA5G1126CADT2NFWCA2FHW6XCAEMLZ0ECA3A573U"/>
          <p:cNvPicPr/>
          <p:nvPr/>
        </p:nvPicPr>
        <p:blipFill>
          <a:blip r:embed="rId1"/>
          <a:stretch/>
        </p:blipFill>
        <p:spPr>
          <a:xfrm>
            <a:off x="1239840" y="3573360"/>
            <a:ext cx="3192480" cy="328464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5" descr="5VBWCAL4SD96CAA6UVY5CAQ23CEVCAMZ62A0CA6HPYRNCAOU35VMCAQB2G28CA1J6CR9CAZNE5AUCA3U8MTYCAGL2KLQCAX6HCVICAT6JCZ8CAT6E9L1CABVFQD1CAFOVF1VCAFRURZICALSLRG6CATKBECJ"/>
          <p:cNvPicPr/>
          <p:nvPr/>
        </p:nvPicPr>
        <p:blipFill>
          <a:blip r:embed="rId2"/>
          <a:stretch/>
        </p:blipFill>
        <p:spPr>
          <a:xfrm>
            <a:off x="5219640" y="838080"/>
            <a:ext cx="302436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ffff"/>
                </a:solidFill>
                <a:latin typeface="Arial"/>
              </a:rPr>
              <a:t>Ears and Hear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und receptors are concentrated in the ear in mammals, birds, reptiles and amphibia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ee regions commonly identified in the human ea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ffff"/>
                </a:solidFill>
                <a:latin typeface="Verdana"/>
              </a:rPr>
              <a:t>	</a:t>
            </a:r>
            <a:r>
              <a:rPr b="1" lang="en-AU" sz="3200" spc="-1" strike="noStrike">
                <a:solidFill>
                  <a:srgbClr val="00ffff"/>
                </a:solidFill>
                <a:latin typeface="Verdana"/>
              </a:rPr>
              <a:t>- outer e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ffff"/>
                </a:solidFill>
                <a:latin typeface="Verdana"/>
              </a:rPr>
              <a:t>	</a:t>
            </a:r>
            <a:r>
              <a:rPr b="1" lang="en-AU" sz="3200" spc="-1" strike="noStrike">
                <a:solidFill>
                  <a:srgbClr val="00ffff"/>
                </a:solidFill>
                <a:latin typeface="Verdana"/>
              </a:rPr>
              <a:t>- middle e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ffff"/>
                </a:solidFill>
                <a:latin typeface="Verdana"/>
              </a:rPr>
              <a:t>	</a:t>
            </a:r>
            <a:r>
              <a:rPr b="1" lang="en-AU" sz="3200" spc="-1" strike="noStrike">
                <a:solidFill>
                  <a:srgbClr val="00ffff"/>
                </a:solidFill>
                <a:latin typeface="Verdana"/>
              </a:rPr>
              <a:t>- inner e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ffff"/>
                </a:solidFill>
                <a:latin typeface="Arial"/>
              </a:rPr>
              <a:t>Ears and Hear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200" spc="-1" strike="noStrike">
                <a:solidFill>
                  <a:srgbClr val="00ff00"/>
                </a:solidFill>
                <a:latin typeface="Verdana"/>
              </a:rPr>
              <a:t>Outer E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- external ear made of cartilage leads into an ear canal about 2.5cm lo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- the canal ends in delicate membrane (eardr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- gathers sound wav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ffff"/>
                </a:solidFill>
                <a:latin typeface="Arial"/>
              </a:rPr>
              <a:t>Ears and Hear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2800" spc="-1" strike="noStrike">
                <a:solidFill>
                  <a:srgbClr val="00ff00"/>
                </a:solidFill>
                <a:latin typeface="Verdana"/>
              </a:rPr>
              <a:t>Middle E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- an air-filled cavity that contains three tiny bones joined by elastic ligam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- sound waves cause the eardrum to vibr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- the vibration is conducted across the middle ear by the three bones to the inner e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- the force of the vibration is magnified (transmitted from a large area to a smaller area in the inner ear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- magnifies the sound vibr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ffff"/>
                </a:solidFill>
                <a:latin typeface="Arial"/>
              </a:rPr>
              <a:t>Ears and Hear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200" spc="-1" strike="noStrike">
                <a:solidFill>
                  <a:srgbClr val="00ff00"/>
                </a:solidFill>
                <a:latin typeface="Verdana"/>
              </a:rPr>
              <a:t>Inner E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- consists of a small coiled structure (cochlea), filled with flu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- vibrations reaching the inner ear produce pressure on the flu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- sound receptors are minute hair cells on the membrane inside the cochle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- receives the sound stimul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4" descr="images"/>
          <p:cNvPicPr/>
          <p:nvPr/>
        </p:nvPicPr>
        <p:blipFill>
          <a:blip r:embed="rId1"/>
          <a:stretch/>
        </p:blipFill>
        <p:spPr>
          <a:xfrm>
            <a:off x="611280" y="3048120"/>
            <a:ext cx="4593960" cy="27637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6" descr="images5"/>
          <p:cNvPicPr/>
          <p:nvPr/>
        </p:nvPicPr>
        <p:blipFill>
          <a:blip r:embed="rId2"/>
          <a:stretch/>
        </p:blipFill>
        <p:spPr>
          <a:xfrm>
            <a:off x="5796000" y="433440"/>
            <a:ext cx="3097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The Sen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00"/>
                </a:solidFill>
                <a:latin typeface="Tahoma"/>
              </a:rPr>
              <a:t>S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Tahoma"/>
              </a:rPr>
              <a:t>Taste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ff00"/>
                </a:solidFill>
                <a:latin typeface="Tahoma"/>
              </a:rPr>
              <a:t>Smell (Olfactor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ff"/>
                </a:solidFill>
                <a:latin typeface="Tahoma"/>
              </a:rPr>
              <a:t>Touch and Tact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Sou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3" name="Picture 6" descr="3_monkeys"/>
          <p:cNvPicPr/>
          <p:nvPr/>
        </p:nvPicPr>
        <p:blipFill>
          <a:blip r:embed="rId1"/>
          <a:stretch/>
        </p:blipFill>
        <p:spPr>
          <a:xfrm>
            <a:off x="5724360" y="1916280"/>
            <a:ext cx="2880000" cy="123156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7" descr="Circus_bear"/>
          <p:cNvPicPr/>
          <p:nvPr/>
        </p:nvPicPr>
        <p:blipFill>
          <a:blip r:embed="rId2"/>
          <a:stretch/>
        </p:blipFill>
        <p:spPr>
          <a:xfrm>
            <a:off x="4140360" y="4076640"/>
            <a:ext cx="180468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Human Light recept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Visual stimulus in the form of light enters the human eye through the cornea and passes through the lens where it is focussed onto the ret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 retina contains 2 kinds of photoreceptors – </a:t>
            </a: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rods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cones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which contain light-sensitive pig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7" name="Picture 4" descr="tn_eyes_066"/>
          <p:cNvPicPr/>
          <p:nvPr/>
        </p:nvPicPr>
        <p:blipFill>
          <a:blip r:embed="rId1"/>
          <a:stretch/>
        </p:blipFill>
        <p:spPr>
          <a:xfrm>
            <a:off x="6516720" y="3429000"/>
            <a:ext cx="122544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Human Light recept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ibres from rods and cones lead to the optic ner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4000" spc="-1" strike="noStrike">
                <a:solidFill>
                  <a:srgbClr val="ff0000"/>
                </a:solidFill>
                <a:latin typeface="Arial"/>
              </a:rPr>
              <a:t>Cone cells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unction in high light intensities and detect colour and deta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- concentrated in the central retina, used when a person looks straight at a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Human Light recept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4000" spc="-1" strike="noStrike">
                <a:solidFill>
                  <a:srgbClr val="ff0000"/>
                </a:solidFill>
                <a:latin typeface="Arial"/>
              </a:rPr>
              <a:t>Rod ce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- detect low intensity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- detect movement of a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- do not distinguish colour or det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- occur in highest concentrations in the outer areas of the ret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5" descr="images10"/>
          <p:cNvPicPr/>
          <p:nvPr/>
        </p:nvPicPr>
        <p:blipFill>
          <a:blip r:embed="rId1"/>
          <a:stretch/>
        </p:blipFill>
        <p:spPr>
          <a:xfrm>
            <a:off x="4284720" y="692280"/>
            <a:ext cx="2592360" cy="244944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7" descr="images8"/>
          <p:cNvPicPr/>
          <p:nvPr/>
        </p:nvPicPr>
        <p:blipFill>
          <a:blip r:embed="rId2"/>
          <a:stretch/>
        </p:blipFill>
        <p:spPr>
          <a:xfrm>
            <a:off x="1332000" y="3718080"/>
            <a:ext cx="266364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66ff66"/>
                </a:solidFill>
                <a:latin typeface="Arial"/>
              </a:rPr>
              <a:t>Human Taste recept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aste receptors are located in taste buds on the tongue in hum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erves from these receptors transmit impulses to the b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aste receptors detect chemical substances in solution in the sali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66ff66"/>
                </a:solidFill>
                <a:latin typeface="Arial"/>
              </a:rPr>
              <a:t>Five basic tastes are identified: sour, salt, bitter, sweet, um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ll taste buds detect all five basic tas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6" name="Picture 4" descr="wine_glass"/>
          <p:cNvPicPr/>
          <p:nvPr/>
        </p:nvPicPr>
        <p:blipFill>
          <a:blip r:embed="rId1"/>
          <a:stretch/>
        </p:blipFill>
        <p:spPr>
          <a:xfrm>
            <a:off x="8317080" y="620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5" descr="toco"/>
          <p:cNvPicPr/>
          <p:nvPr/>
        </p:nvPicPr>
        <p:blipFill>
          <a:blip r:embed="rId2"/>
          <a:stretch/>
        </p:blipFill>
        <p:spPr>
          <a:xfrm>
            <a:off x="395280" y="476280"/>
            <a:ext cx="781200" cy="58104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6" descr="2food5"/>
          <p:cNvPicPr/>
          <p:nvPr/>
        </p:nvPicPr>
        <p:blipFill>
          <a:blip r:embed="rId3"/>
          <a:stretch/>
        </p:blipFill>
        <p:spPr>
          <a:xfrm>
            <a:off x="7812000" y="299736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7" descr="Burger-02"/>
          <p:cNvPicPr/>
          <p:nvPr/>
        </p:nvPicPr>
        <p:blipFill>
          <a:blip r:embed="rId4"/>
          <a:stretch/>
        </p:blipFill>
        <p:spPr>
          <a:xfrm>
            <a:off x="3419640" y="183816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4" descr="08O6CAI2UWB5CAPM2YLYCA9CRMW3CAOYBGI5CA00T55QCAAHPMWXCAR0VV5SCAZLALTUCA446EUKCAA4WKGTCAYD2H3ICAM18J5LCA1AFRQLCAGBABJJCADCCTA7CA669H2FCAUZTB0BCA80X78JCAUXAQ4K"/>
          <p:cNvPicPr/>
          <p:nvPr/>
        </p:nvPicPr>
        <p:blipFill>
          <a:blip r:embed="rId1"/>
          <a:stretch/>
        </p:blipFill>
        <p:spPr>
          <a:xfrm>
            <a:off x="1476360" y="3095640"/>
            <a:ext cx="2519280" cy="244476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5" descr="F4H6CAAYX2GVCA80A0LPCALD3RIECA5I6NDSCAJL3RKJCAY60BMKCA2RIMUYCAN1097KCAVH29GICAQ94LMPCALOY5GBCASUHO05CA48EVD8CAM85QG3CAJV645VCA3KPQBACAK39ET7CA9035XHCAR4XG5Z"/>
          <p:cNvPicPr/>
          <p:nvPr/>
        </p:nvPicPr>
        <p:blipFill>
          <a:blip r:embed="rId2"/>
          <a:stretch/>
        </p:blipFill>
        <p:spPr>
          <a:xfrm>
            <a:off x="6012000" y="549360"/>
            <a:ext cx="241776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cc"/>
                </a:solidFill>
                <a:latin typeface="Arial"/>
              </a:rPr>
              <a:t>Human Olfactory recepto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Verdana"/>
              </a:rPr>
              <a:t>Olfactory receptors are located on bony outgrowths inside the nasal cavi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Verdana"/>
              </a:rPr>
              <a:t>In humans, olfactory receptors are nerve cells.  The fibres from these cells form the olfactory nerve leading to the brai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02:34:39Z</dcterms:created>
  <dc:creator>Lyn Clarkson</dc:creator>
  <dc:description/>
  <dc:language>en-US</dc:language>
  <cp:lastModifiedBy>Emily</cp:lastModifiedBy>
  <dcterms:modified xsi:type="dcterms:W3CDTF">2008-07-22T11:21:54Z</dcterms:modified>
  <cp:revision>8</cp:revision>
  <dc:subject/>
  <dc:title>Slide 1</dc:title>
</cp:coreProperties>
</file>